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0158413" cy="76215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3221-8477-43FD-B164-5D9CF5993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6519-B97B-42F9-90A3-A931892EC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3E3A-E433-4C67-817F-825D2FED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2C5F-DAE6-4F09-B0B0-42F36790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761A-479A-49EE-A112-12489D3D51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CD5-A4E7-447C-8F03-A0FBABEC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C03-F242-46E1-A73D-ECDE474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3BD-1AE7-44F1-B6CD-E8700F1D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F63-798A-4D23-8C0E-129D7408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0AD-5D96-4E76-9BCB-CF2A6BD2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545C-AE5F-45F8-B8E5-74EE507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8C15-8D14-422C-823B-0FB73F78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6C04-2FE9-4E8B-8A70-5BA56E76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B24-AF75-4EC6-BB46-F508ED4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48D-C4D7-4A1C-AB5E-1EC7F8D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204C-7831-43D9-A684-35D4B14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07C-57C0-46A8-B591-5E047BE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981-2FD1-472C-AE72-39B0954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062-281D-48D4-AC35-3005A44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2A5A-CD0E-41FC-8B9B-2BF7CD3B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8AB-7CFB-47A5-A014-854874F7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29AC-B531-424C-84D7-5A1F6D34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44BE-F6EE-4F8E-8AAC-541D7E3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4CCF-1F9A-481A-A67E-C0195AD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33C8-3195-4A1F-A10D-8BA503C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4A8B-020E-4301-B868-0F151B5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F18F-6A2A-4605-84BE-02974FD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7E4-D2A7-4A8E-BEA5-E07FCCA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7A88-52F5-4DC7-974F-DB79A12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78C4-6964-41D0-8375-4823D1A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D2C0-959F-480D-83D1-59C8902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BB9E-6B9D-42A9-9F6E-E707FEE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C646-1766-43F8-B1C6-F6349B8A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9B7B-4CD4-4644-A810-CBBA3A61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7B9B-9565-4AEE-AEC7-8D643A69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2C0-FA75-456C-9B4B-EFC2A6F7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EBC-0555-4F6E-B5D9-EAEDB2F8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FD3-0DD8-4E30-ABCA-5FD0A75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1D2-3340-4D04-B490-AFA829E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05B-24B1-4CBA-95EB-CA50133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67C-12ED-43A2-9331-840A7FB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4BAB-058C-4783-9456-61341051515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948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500A-4CFB-46F9-B2CA-CDBCF50C5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7237080"/>
            <a:ext cx="13492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1465-F95B-46D5-8E30-C3762261AE3C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503000" y="7237080"/>
            <a:ext cx="77230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toukh, AGU'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9325080" y="7224840"/>
            <a:ext cx="814320" cy="382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CF10-4BC1-47E5-8C1C-8B08F535EAE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46080" y="33480"/>
            <a:ext cx="79992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2120" y="7178760"/>
            <a:ext cx="21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75C6-83A4-4359-8B81-21CFDE4D68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70040" y="7178760"/>
            <a:ext cx="321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79920" y="7178760"/>
            <a:ext cx="21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D849-B494-4C40-9D05-0B8489779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736560" y="4416480"/>
            <a:ext cx="86868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Gregory Leptoukh, NASA GS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With some “borrowing” from Chris Lynnes, Ralph Kahn, Jeff R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Towards Consistent Characterization of Quality and Uncertainty i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 Multi-sensor Aerosol Level 3 Satellite Data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36560" y="64771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ded in part by NASA ESTO and ACCESS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720" y="275760"/>
            <a:ext cx="8424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298"/>
                </a:solidFill>
                <a:latin typeface="Arial"/>
              </a:rPr>
              <a:t>Case 1: MODIS vs. MERIS</a:t>
            </a:r>
            <a:endParaRPr b="0" lang="en-US" sz="31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5089680" y="1471680"/>
            <a:ext cx="4743360" cy="3938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317520" y="1450800"/>
            <a:ext cx="4594320" cy="3335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2216160" y="838080"/>
            <a:ext cx="43815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298"/>
                </a:solidFill>
                <a:latin typeface="Comic Sans MS"/>
              </a:rPr>
              <a:t>Sam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405400" y="838080"/>
            <a:ext cx="44672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298"/>
                </a:solidFill>
                <a:latin typeface="Comic Sans MS"/>
              </a:rPr>
              <a:t>Same space &amp;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3"/>
          <a:stretch/>
        </p:blipFill>
        <p:spPr>
          <a:xfrm>
            <a:off x="7101000" y="1260360"/>
            <a:ext cx="679320" cy="247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4"/>
          <a:stretch/>
        </p:blipFill>
        <p:spPr>
          <a:xfrm>
            <a:off x="2870280" y="1303200"/>
            <a:ext cx="1057320" cy="212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507960" y="5257800"/>
            <a:ext cx="4419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298"/>
                </a:solidFill>
                <a:latin typeface="Comic Sans MS"/>
              </a:rPr>
              <a:t>Different results –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738360" y="1986120"/>
            <a:ext cx="17985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Arial"/>
              </a:rPr>
              <a:t>MOD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472000" y="1992240"/>
            <a:ext cx="179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Arial"/>
              </a:rPr>
              <a:t>ME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355680" y="6019920"/>
            <a:ext cx="9524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 threshold used in MERIS processing effectively excludes high aerosol values.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te: MERIS was designed primarily as an ocean-color instrument, so aerosols are “obstacles” not sig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143000" y="104760"/>
            <a:ext cx="556740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88480" y="299520"/>
            <a:ext cx="906804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ase 2: Aggregation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203040" y="1946160"/>
            <a:ext cx="4648320" cy="2854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1346040" y="5105520"/>
            <a:ext cx="2705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shchenk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t al.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3040" y="5851440"/>
            <a:ext cx="9448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AOD difference can be up to 40% due to differences in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5613480" y="1600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4"/>
          <a:stretch/>
        </p:blipFill>
        <p:spPr>
          <a:xfrm>
            <a:off x="2870280" y="3581280"/>
            <a:ext cx="4495680" cy="9144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1"/>
          <p:cNvSpPr/>
          <p:nvPr/>
        </p:nvSpPr>
        <p:spPr>
          <a:xfrm>
            <a:off x="5842080" y="5114880"/>
            <a:ext cx="3382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vy, Leptoukh, et al.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31640" y="1079640"/>
            <a:ext cx="4419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D difference betwee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156280" y="939960"/>
            <a:ext cx="4419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S Terra only AOD: difference between diff. aggre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5"/>
          <a:stretch/>
        </p:blipFill>
        <p:spPr>
          <a:xfrm>
            <a:off x="31680" y="20520"/>
            <a:ext cx="825480" cy="827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6"/>
          <a:stretch/>
        </p:blipFill>
        <p:spPr>
          <a:xfrm>
            <a:off x="2946240" y="2666880"/>
            <a:ext cx="4191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E12C-2E8E-4E60-8F1B-A10BB21F628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CADE-6947-4119-9D75-ADD63B75F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se 3: DataDay definition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rcRect l="0" t="4166" r="0" b="0"/>
          <a:stretch/>
        </p:blipFill>
        <p:spPr>
          <a:xfrm>
            <a:off x="1066680" y="1066680"/>
            <a:ext cx="7442280" cy="5094360"/>
          </a:xfrm>
          <a:prstGeom prst="rect">
            <a:avLst/>
          </a:prstGeom>
          <a:ln w="0">
            <a:noFill/>
          </a:ln>
        </p:spPr>
      </p:pic>
      <p:sp>
        <p:nvSpPr>
          <p:cNvPr id="211" name="Oval 6"/>
          <p:cNvSpPr/>
          <p:nvPr/>
        </p:nvSpPr>
        <p:spPr>
          <a:xfrm>
            <a:off x="4089240" y="2057400"/>
            <a:ext cx="1624320" cy="321804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203040" y="617220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ODIS-Terra vs. MODIS-Aqua: Map of AOD temporal correlation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9"/>
          <p:cNvCxnSpPr/>
          <p:nvPr/>
        </p:nvCxnSpPr>
        <p:spPr>
          <a:xfrm flipH="1">
            <a:off x="5231520" y="1676520"/>
            <a:ext cx="3886920" cy="16768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14" name="TextBox 13"/>
          <p:cNvSpPr/>
          <p:nvPr/>
        </p:nvSpPr>
        <p:spPr>
          <a:xfrm>
            <a:off x="203040" y="662940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S Level 3 dataday definition leads to artifact in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8480" y="151920"/>
            <a:ext cx="863604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Factors contributing to uncertainty and bias in L2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5680" y="1600200"/>
            <a:ext cx="9448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hysic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instrument, retrieval algorithm, aerosol spatial and temporal variability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cillary data used by the retrieval algorith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Classific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erroneous flagging of the dat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imu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geophysical model used for the retriev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ampl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averaging within the retrieval footpri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rrowed from the SST study on error budg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DA28-97AF-433B-AB3D-23E5081100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88D5-2D95-4E61-B788-292D90A11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46000" y="22824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Different kinds of reported and perceived data quality 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447560"/>
            <a:ext cx="967752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Pixel-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Quality (reported):  algorithmic guess at usability of data point (some say it reflects the algorithm “happiness”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anule-level Quality:  statistical roll-up of Pixel-level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Product-leve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Quality (wanted/perceived):  how closely the data represent the actual geophysical st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Record-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Quality: how consistent and reliable the data record is across generations of measur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ifferent quality types are often erroneously assumed having the same mea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ifferent focus and action at these different levels to ensure Data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E4A-E742-4EDB-B580-0332962E966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5ED0-7B64-4697-BF29-65354BACE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6360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General Level 2 Pixel-Level Issue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3040" y="990720"/>
            <a:ext cx="967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to extrapolate validation knowledge about selected Level 2 pixels to the Level 2 (swath) produc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to harmonize terms and methods for pixel-level quality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FCA-7B5E-4F79-9971-83D4361AD49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D808-F432-4C93-9D77-950FE7A9A90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23"/>
          <p:cNvGrpSpPr/>
          <p:nvPr/>
        </p:nvGrpSpPr>
        <p:grpSpPr>
          <a:xfrm>
            <a:off x="355680" y="2590920"/>
            <a:ext cx="9554760" cy="4593960"/>
            <a:chOff x="355680" y="2590920"/>
            <a:chExt cx="9554760" cy="4593960"/>
          </a:xfrm>
        </p:grpSpPr>
        <p:sp>
          <p:nvSpPr>
            <p:cNvPr id="231" name="TextBox 7"/>
            <p:cNvSpPr/>
            <p:nvPr/>
          </p:nvSpPr>
          <p:spPr>
            <a:xfrm>
              <a:off x="812880" y="2590920"/>
              <a:ext cx="373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AIRS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Quality Indicat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Box 8"/>
            <p:cNvSpPr/>
            <p:nvPr/>
          </p:nvSpPr>
          <p:spPr>
            <a:xfrm>
              <a:off x="5049720" y="2590920"/>
              <a:ext cx="452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MODIS Aerosols Confidence Fla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Box 9"/>
            <p:cNvSpPr/>
            <p:nvPr/>
          </p:nvSpPr>
          <p:spPr>
            <a:xfrm>
              <a:off x="660240" y="4013280"/>
              <a:ext cx="421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0   Best</a:t>
              </a: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     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rebuchet MS"/>
                </a:rPr>
                <a:t>Data Assimi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Good    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rebuchet MS"/>
                </a:rPr>
                <a:t>Climatic Stud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Do Not 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5235480" y="5545080"/>
              <a:ext cx="4524480" cy="1639800"/>
            </a:xfrm>
            <a:prstGeom prst="rect">
              <a:avLst/>
            </a:prstGeom>
            <a:solidFill>
              <a:srgbClr val="6095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00"/>
                  </a:solidFill>
                  <a:latin typeface="Trebuchet MS"/>
                </a:rPr>
                <a:t>Use these flags in order to stay within expected error bou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7139160" y="4002120"/>
              <a:ext cx="2636640" cy="366480"/>
            </a:xfrm>
            <a:prstGeom prst="rect">
              <a:avLst/>
            </a:prstGeom>
            <a:solidFill>
              <a:srgbClr val="6095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5232600" y="4002120"/>
              <a:ext cx="2101680" cy="1015920"/>
            </a:xfrm>
            <a:prstGeom prst="rect">
              <a:avLst/>
            </a:prstGeom>
            <a:solidFill>
              <a:srgbClr val="6095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7568280" y="4002120"/>
              <a:ext cx="234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Very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2   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1    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0    B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13"/>
            <p:cNvSpPr/>
            <p:nvPr/>
          </p:nvSpPr>
          <p:spPr>
            <a:xfrm>
              <a:off x="4929840" y="4002120"/>
              <a:ext cx="234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Very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2   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1    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0    B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Box 25"/>
            <p:cNvSpPr/>
            <p:nvPr/>
          </p:nvSpPr>
          <p:spPr>
            <a:xfrm>
              <a:off x="5669640" y="357660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O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Box 26"/>
            <p:cNvSpPr/>
            <p:nvPr/>
          </p:nvSpPr>
          <p:spPr>
            <a:xfrm>
              <a:off x="8241480" y="357804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30"/>
            <p:cNvSpPr/>
            <p:nvPr/>
          </p:nvSpPr>
          <p:spPr>
            <a:xfrm>
              <a:off x="7788240" y="6640560"/>
              <a:ext cx="20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±0.05 ± 0.15 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  <a:ea typeface="Symbo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32"/>
            <p:cNvSpPr/>
            <p:nvPr/>
          </p:nvSpPr>
          <p:spPr>
            <a:xfrm>
              <a:off x="5280840" y="666756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±0.03 ± 0.10 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  <a:ea typeface="Symbo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Box 16"/>
            <p:cNvSpPr/>
            <p:nvPr/>
          </p:nvSpPr>
          <p:spPr>
            <a:xfrm>
              <a:off x="5843520" y="637848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O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Box 17"/>
            <p:cNvSpPr/>
            <p:nvPr/>
          </p:nvSpPr>
          <p:spPr>
            <a:xfrm>
              <a:off x="8404920" y="638028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Box 19"/>
            <p:cNvSpPr/>
            <p:nvPr/>
          </p:nvSpPr>
          <p:spPr>
            <a:xfrm>
              <a:off x="3174840" y="52531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Purp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ight Arrow 21"/>
            <p:cNvSpPr/>
            <p:nvPr/>
          </p:nvSpPr>
          <p:spPr>
            <a:xfrm rot="16200000">
              <a:off x="3403440" y="4718880"/>
              <a:ext cx="704520" cy="51408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Box 22"/>
            <p:cNvSpPr/>
            <p:nvPr/>
          </p:nvSpPr>
          <p:spPr>
            <a:xfrm>
              <a:off x="355680" y="59436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atch up the recommendati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6200" y="75960"/>
            <a:ext cx="929628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Why can’t we just apply L2 quality to L3?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38040" y="914040"/>
            <a:ext cx="9568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43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Aggregation to L3 introduces new issues where aerosols co-vary with some observing or environmental condi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Spati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ampling polar areas more than equator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Tempor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ampling one time of a day only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(not obvious when looking at L3 map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Vertic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not sensitive to a certain part of the atmosphere thus emphasizing other par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Contextual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ight surface or clear sky bi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Pixel Qual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filtering or weighting by quality may mask out areas with specific fea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9BA9-1623-4981-AEDC-BE7CB860C3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Date Placeholder 5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1B8C-4D22-490F-8A3B-C6B82C9657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169560"/>
            <a:ext cx="914400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Validation of Level 3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3720" y="761760"/>
            <a:ext cx="94824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ual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 2: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regress against the tru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 3: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ggregate and then regress against the aggregated tru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ring a mean value in 1 deg grid box with data from stations in the same big are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presentativeness bia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ing aggregation: spatial over satellite data and temporal over station data – works well only for large homogenous fiel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ring variance in the data  with knowledge about atmospheric variability.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omparison of retrieved maps with climatology can indicate systematic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rison with models (how ironic!) for initial valid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oesn’t look comprehensive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2330-DCF3-4407-9934-C5DDDBEAB2C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009-4468-4355-BF9C-64948470E7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169560"/>
            <a:ext cx="914400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urrent initiative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79000" y="931680"/>
            <a:ext cx="9626760" cy="57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SA expands the 2006 MEaSUREs and 2008 ACCESS programs emphasis on data quality to the 2010 ESDRERR progra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A is imposing contractual requirements for providing quality information within the Climate Change Initi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 2010 Guideline for the Generation of Datasets and Products Meeting GCOS Requir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OS QA for Earth Observations (QA4EO) recommendations for capturing uncertainties – currently do not go beyond Level 1 or 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WEX panel on aerosols (several incarnation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DD52-020F-4432-BABE-6AE12B7C3EB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EC2B-BA4B-4FB2-B18A-5B835A5D7F5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796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do we recommend?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7960" y="762120"/>
            <a:ext cx="931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A framework for consistent assessment, capture and presentation of data quality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Establish terminology for Level 3 quality and validation (currently it differs from field to field, group to grou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Harmonize qualit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ross product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Consistent aggregat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to Level 3 to ensure compatibility between data from different instruments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Directl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address and quantif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vario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bia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 types at product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Extrapolate validation knowledge about L2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t quality to Level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Deliver quality informat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to users of data in a way the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can understand and use it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Extend QA4EO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 other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efforts to Level 3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we can answer a typical user question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hich product is better for my purpos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5CB-8BCD-4111-B463-629ECB805FD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680-B952-40E4-8509-B9815A35D7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990360"/>
            <a:ext cx="9051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Level 3 data and what is missing in L3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Quality needs: fitness for purpo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Level 3 quality asp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Biases: sampling and processing-rel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erspectives of Data Quality: Pixel vs.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Level 3 valida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at needs to be done?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A framework for consistent assessment and quantification of Level 3 data qu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6B40-9FC8-45FB-8C1E-7DCD1D3028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B50E-F2A9-483E-B359-719821D59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636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y use Level 3 products?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7960" y="76176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tellite Level 2 data are difficult to work with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x form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icated projection (swath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vol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mber of files, etc., et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vel 3 products are widely used by modelers, application users, climate change scient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vel 3 data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re easy to 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 … but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ow good are these data for various purposes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Challen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o answer a typical data user question: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hich product is better for m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7E4D-9941-47D6-A13C-EDC9A5CCC23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5AA-26CE-424F-92A5-B35A4C4DC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84240"/>
            <a:ext cx="91440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Data quality needs: fitness for purpose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4160" y="990720"/>
            <a:ext cx="9735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easuring Climate Change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odel validation -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gridded contiguous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ata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with uncertainties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in grid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cell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Long-term time series –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bias assessment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is the must , e.g., sensor degradation, orbit and spatial sampling change (e.g., changing cloud cover over tropical oceans due to El-Nino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tudying phenomena using multi-sensor data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Consistently processed and presented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ata with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quality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inform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Realizing Societal Benefits through Applications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Near-Real Time for transport and event monitoring - in some cases,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coverage and timeliness might be more important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that accurac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ollution monitoring (e.g., air quality exceedance levels) – 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accurac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ducational (users generally not well-versed in the intricacies of quality; just taking all the data as usable can impair educational lessons) –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only the best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oduct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602C-FF69-4B35-BEAA-321D5B60C45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0D05-3353-4E55-A1B4-303E34412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6360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y is it so complicated for Level 3? 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1280" y="106632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torical reas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ually,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cience Teams are tasked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produce &amp; validat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Level 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ability of L3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usually i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not a high priority for Science Tea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Level 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roducts ar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reat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mostly as jus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imager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 to assess gross features and variability of geophysical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3 data ar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constructed differentl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ifferent instru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L2 uncertaint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uall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not propagated to L3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3 “validation”, in most cases, is done by either comparing with point data or consistency checking with L3 data from other sensors or models, or jus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eclaring it “validated” if L2 data 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No consistent efforts to characterize &amp; quantify L3 uncertainties across sensor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sides some individual effo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80A-EFAD-4888-900E-31A596E9929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CC6-A429-4A4B-8B6E-D71744AF8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0240" y="7596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ddressing Level 3 data “quality”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7621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rminology: Quality, Uncertainty, Bias, Error budget, et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 aspects (examples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n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pat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MODIS covers more than MIS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mpor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erra mission has been longer in space than Aqu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Observing Condi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MODIS cannot measure over sun glint while MISR ca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pat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e.g.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not changing over sea-land boundar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mporal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e.g.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rends, discontinuities and anomali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Observing Condi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e.g.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exhibit variation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retrieved measurements due to the viewing conditions, such as viewing geometry or cloud frac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resentativen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ther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pixel count nor standard deviation fully express how representative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grid cell value 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ample from R. Kahn: for global, ~ 1˚ x 1˚ AOD, in general, MISR data need to be aggregated to ~ 3-month sampling to converge with MODI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3640-C3FB-4B9A-9849-31931A70F4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87C8-4B7E-4FE4-BBAF-B5B0498B17C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9880" y="83880"/>
            <a:ext cx="89917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alibri"/>
              </a:rPr>
              <a:t>Spatial and temporal sampling – how to quantify to make it useful for modelers? </a:t>
            </a:r>
            <a:endParaRPr b="0" lang="en-US" sz="3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914040"/>
            <a:ext cx="4489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ODIS Aqua AOD July 2009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Content Placeholder 6" descr="Optical_Depth_Land_And_Ocean_Mean_Mean.MYD08_M3.051.AreaMap.2009-07.gif"/>
          <p:cNvPicPr/>
          <p:nvPr/>
        </p:nvPicPr>
        <p:blipFill>
          <a:blip r:embed="rId1"/>
          <a:stretch/>
        </p:blipFill>
        <p:spPr>
          <a:xfrm>
            <a:off x="200160" y="1574640"/>
            <a:ext cx="4964040" cy="354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98640" y="914040"/>
            <a:ext cx="449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ISR Terra AOD July 2009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Content Placeholder 7" descr="Optical_depth_average_Green.MIL3MAE.004.AreaMap.2009-07.gif"/>
          <p:cNvPicPr/>
          <p:nvPr/>
        </p:nvPicPr>
        <p:blipFill>
          <a:blip r:embed="rId2"/>
          <a:stretch/>
        </p:blipFill>
        <p:spPr>
          <a:xfrm>
            <a:off x="5079960" y="1574640"/>
            <a:ext cx="4965840" cy="3548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177840" y="5486400"/>
            <a:ext cx="970272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Completeness: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DIS dark target algorithm does not work for des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Representativeness: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nthly aggregation is not enough for MISR and even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Oval 55" descr=""/>
          <p:cNvPicPr/>
          <p:nvPr/>
        </p:nvPicPr>
        <p:blipFill>
          <a:blip r:embed="rId3"/>
          <a:stretch/>
        </p:blipFill>
        <p:spPr>
          <a:xfrm>
            <a:off x="6076800" y="2541600"/>
            <a:ext cx="519120" cy="1006560"/>
          </a:xfrm>
          <a:prstGeom prst="rect">
            <a:avLst/>
          </a:prstGeom>
          <a:ln w="0">
            <a:noFill/>
          </a:ln>
        </p:spPr>
      </p:pic>
      <p:pic>
        <p:nvPicPr>
          <p:cNvPr id="165" name="Oval 56" descr=""/>
          <p:cNvPicPr/>
          <p:nvPr/>
        </p:nvPicPr>
        <p:blipFill>
          <a:blip r:embed="rId4"/>
          <a:stretch/>
        </p:blipFill>
        <p:spPr>
          <a:xfrm>
            <a:off x="6523200" y="2535120"/>
            <a:ext cx="61596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Oval 57" descr=""/>
          <p:cNvPicPr/>
          <p:nvPr/>
        </p:nvPicPr>
        <p:blipFill>
          <a:blip r:embed="rId5"/>
          <a:stretch/>
        </p:blipFill>
        <p:spPr>
          <a:xfrm>
            <a:off x="5553000" y="2614680"/>
            <a:ext cx="500040" cy="933480"/>
          </a:xfrm>
          <a:prstGeom prst="rect">
            <a:avLst/>
          </a:prstGeom>
          <a:ln w="0">
            <a:noFill/>
          </a:ln>
        </p:spPr>
      </p:pic>
      <p:pic>
        <p:nvPicPr>
          <p:cNvPr id="167" name="Oval 58" descr=""/>
          <p:cNvPicPr/>
          <p:nvPr/>
        </p:nvPicPr>
        <p:blipFill>
          <a:blip r:embed="rId6"/>
          <a:stretch/>
        </p:blipFill>
        <p:spPr>
          <a:xfrm>
            <a:off x="5095800" y="2614680"/>
            <a:ext cx="500040" cy="933480"/>
          </a:xfrm>
          <a:prstGeom prst="rect">
            <a:avLst/>
          </a:prstGeom>
          <a:ln w="0">
            <a:noFill/>
          </a:ln>
        </p:spPr>
      </p:pic>
      <p:pic>
        <p:nvPicPr>
          <p:cNvPr id="168" name="Oval 59" descr=""/>
          <p:cNvPicPr/>
          <p:nvPr/>
        </p:nvPicPr>
        <p:blipFill>
          <a:blip r:embed="rId7"/>
          <a:stretch/>
        </p:blipFill>
        <p:spPr>
          <a:xfrm>
            <a:off x="7034040" y="2316240"/>
            <a:ext cx="579600" cy="1225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5"/>
          <p:cNvSpPr/>
          <p:nvPr/>
        </p:nvSpPr>
        <p:spPr>
          <a:xfrm>
            <a:off x="177840" y="6137280"/>
            <a:ext cx="970272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Spatial sampling patterns are different for MODIS Aqua and MISR Terra: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“pulsating” areas over ocean are oriented differently due to different direction of orbiting during day-time measurement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gnitive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ate Placeholder 66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BA4-6E13-4E7F-9A61-A801189671E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67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D21-2B6F-4C1E-AB23-E18F3A150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68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848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s L3 quality different from L2 quality?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960" y="12952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L2 errors are known, the corresponding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3 error can be computed, in princi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ing from L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3 dail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L3 monthly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may reduce random nois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ut can als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xacerbate systematic  bias and introduce additional sampling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ever, at best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tandard deviation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mostly reflecting variability within a grid box), and sometime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ixel counts and quality histogram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provide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nvolution of natural variability with sensor/retrieval uncertainty and bia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– need to understand their relative contribution to differences between da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does not address sampling bia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033E-1CB9-46B7-8062-E459CB05E06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A733-90F8-4EF2-AE5E-A9E8CCA1F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0240" y="75960"/>
            <a:ext cx="9499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ifferences in L3 from different sensors due to processing</a:t>
            </a:r>
            <a:endParaRPr b="0" lang="en-US" sz="2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5680" y="1066680"/>
            <a:ext cx="9448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patial and temporal binning (L2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3 daily)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ads to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Aggregation bia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surements (L2 pixels) from one or more orbits can go into a single grid cell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ifferent within-grid vari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weighting: pixel counts,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sholds used, i.e., &gt; 5 pixe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ata aggreg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(L3D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L3monthly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regional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global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ighting by pixel counts or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sholds used, i.e., &gt; 2 day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hile these algorithms have been documented in ATBD, reports and papers, the typical data user is not immediately aware of how a given portion of the data has been processed, and what is the resulting impact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05A-8033-401A-AB4A-F7492AFFD24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E18F-6283-463C-AD86-70BC295C4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ptoukh</cp:lastModifiedBy>
  <dcterms:modified xsi:type="dcterms:W3CDTF">2010-12-17T20:20:01Z</dcterms:modified>
  <cp:revision>129</cp:revision>
  <dc:subject/>
  <dc:title>PowerPoint Presentation</dc:title>
</cp:coreProperties>
</file>